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F186-8DB5-4743-9051-DA9AAD74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F99-5EF3-4F29-A2B8-FAB9711D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3D33-11DE-47F2-B35E-9B6CCEF6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75E-AE33-4372-B328-BC505186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1727-C9F0-4324-9B4A-EFB4FB9EB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8EDA-2392-4BB8-8AEE-C1FC2405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B9A3-7B95-43DE-B239-AAEE54C0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A0E2-2318-4659-BB70-0A0F5A27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B54D-41F5-4F4C-8EA0-7AAFDA43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403E-F595-487D-B7DD-C5D685A4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74A0-6BA1-429C-A523-E76252F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A08-86D4-45BF-B0FD-56C064F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4672-7878-4CA5-A63F-BEEA7D8E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EFEC-156D-4E8C-A0D6-DE7E77DE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19F1-BE39-4B5D-96EE-EC798FC9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A5F8-5136-4DC8-8B7E-496A8FDF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507C-57D0-4FE2-8F8E-FB353356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F1A-98C0-4BDF-8F59-BE14064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9F4-E2B3-43E1-B49D-DF18A34B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567-A439-4B33-B355-9BF1D3EB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791-AAC0-4A4F-B707-5981A6A3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CAB-18C6-4734-99C8-8A80E1D5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887-C159-451C-8976-9F36E1C4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A9F-5F33-4958-8608-9315A536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A002-4A0C-4EAD-B711-D6AACE5EEA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F4C2-BDDC-4F50-AEE6-9A5DC8F5E4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Жилища  животных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038480" y="5334120"/>
            <a:ext cx="5029200" cy="14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: ученик МОУ СОШ № 7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рне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азные гнезда пти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10" descr="Все гнезда"/>
          <p:cNvPicPr/>
          <p:nvPr/>
        </p:nvPicPr>
        <p:blipFill>
          <a:blip r:embed="rId1"/>
          <a:stretch/>
        </p:blipFill>
        <p:spPr>
          <a:xfrm>
            <a:off x="914400" y="1676520"/>
            <a:ext cx="7315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реда обит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3440" y="1295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е, что окружает живой орган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илище для животных, особенно для тех,которые обитают в воде или почв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сельдь"/>
          <p:cNvPicPr/>
          <p:nvPr/>
        </p:nvPicPr>
        <p:blipFill>
          <a:blip r:embed="rId1"/>
          <a:stretch/>
        </p:blipFill>
        <p:spPr>
          <a:xfrm>
            <a:off x="457200" y="39625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Горбуша"/>
          <p:cNvPicPr/>
          <p:nvPr/>
        </p:nvPicPr>
        <p:blipFill>
          <a:blip r:embed="rId2"/>
          <a:stretch/>
        </p:blipFill>
        <p:spPr>
          <a:xfrm>
            <a:off x="4495680" y="3962520"/>
            <a:ext cx="4267440" cy="2552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     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1676520" y="2133720"/>
            <a:ext cx="5790960" cy="188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нец</a:t>
            </a:r>
            <a:endParaRPr b="0" lang="en-US" sz="6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5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7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9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Жилище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дом, в котором тело всегда укрыто от враг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Ручейник1"/>
          <p:cNvPicPr/>
          <p:nvPr/>
        </p:nvPicPr>
        <p:blipFill>
          <a:blip r:embed="rId1"/>
          <a:stretch/>
        </p:blipFill>
        <p:spPr>
          <a:xfrm>
            <a:off x="533520" y="3352680"/>
            <a:ext cx="3733560" cy="2895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Реферат 2"/>
          <p:cNvPicPr/>
          <p:nvPr/>
        </p:nvPicPr>
        <p:blipFill>
          <a:blip r:embed="rId2"/>
          <a:stretch/>
        </p:blipFill>
        <p:spPr>
          <a:xfrm>
            <a:off x="4648320" y="3352680"/>
            <a:ext cx="396216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-511920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380880"/>
            <a:ext cx="800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енное или постоянно посещаемое убеж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4" descr="Обезьяна"/>
          <p:cNvPicPr/>
          <p:nvPr/>
        </p:nvPicPr>
        <p:blipFill>
          <a:blip r:embed="rId1"/>
          <a:stretch/>
        </p:blipFill>
        <p:spPr>
          <a:xfrm>
            <a:off x="5181480" y="2971800"/>
            <a:ext cx="3681360" cy="342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Белка"/>
          <p:cNvPicPr/>
          <p:nvPr/>
        </p:nvPicPr>
        <p:blipFill>
          <a:blip r:embed="rId2"/>
          <a:stretch/>
        </p:blipFill>
        <p:spPr>
          <a:xfrm>
            <a:off x="457200" y="2971800"/>
            <a:ext cx="36576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Виды жилищ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п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го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жбища,лежа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незд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еда об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Дупл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щелина в дереве или скале,пещера,где может укрываться одно животное или нескольк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4" descr="Дупло2"/>
          <p:cNvPicPr/>
          <p:nvPr/>
        </p:nvPicPr>
        <p:blipFill>
          <a:blip r:embed="rId1"/>
          <a:stretch/>
        </p:blipFill>
        <p:spPr>
          <a:xfrm>
            <a:off x="3200400" y="3657600"/>
            <a:ext cx="2209680" cy="274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Дупло3"/>
          <p:cNvPicPr/>
          <p:nvPr/>
        </p:nvPicPr>
        <p:blipFill>
          <a:blip r:embed="rId2"/>
          <a:stretch/>
        </p:blipFill>
        <p:spPr>
          <a:xfrm>
            <a:off x="6095880" y="3657600"/>
            <a:ext cx="25146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Дуло3"/>
          <p:cNvPicPr/>
          <p:nvPr/>
        </p:nvPicPr>
        <p:blipFill>
          <a:blip r:embed="rId3"/>
          <a:stretch/>
        </p:blipFill>
        <p:spPr>
          <a:xfrm>
            <a:off x="228600" y="3657600"/>
            <a:ext cx="243828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Нор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может быть система нор, используемых не одним животным,а семьями.В пределах этого жилища проходит вся жизнь:укрытие от врагов,отдых,рождение,кормление и воспитание потомств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Барсук в норе"/>
          <p:cNvPicPr/>
          <p:nvPr/>
        </p:nvPicPr>
        <p:blipFill>
          <a:blip r:embed="rId1"/>
          <a:stretch/>
        </p:blipFill>
        <p:spPr>
          <a:xfrm>
            <a:off x="5029200" y="3581280"/>
            <a:ext cx="3619440" cy="2981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Лиса у норы"/>
          <p:cNvPicPr/>
          <p:nvPr/>
        </p:nvPicPr>
        <p:blipFill>
          <a:blip r:embed="rId2"/>
          <a:stretch/>
        </p:blipFill>
        <p:spPr>
          <a:xfrm>
            <a:off x="380880" y="3581280"/>
            <a:ext cx="3784680" cy="2921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огово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положено на поверхности земли,в укромном мес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Логово волка"/>
          <p:cNvPicPr/>
          <p:nvPr/>
        </p:nvPicPr>
        <p:blipFill>
          <a:blip r:embed="rId1"/>
          <a:stretch/>
        </p:blipFill>
        <p:spPr>
          <a:xfrm>
            <a:off x="152280" y="3733920"/>
            <a:ext cx="251460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Берлога3"/>
          <p:cNvPicPr/>
          <p:nvPr/>
        </p:nvPicPr>
        <p:blipFill>
          <a:blip r:embed="rId2"/>
          <a:stretch/>
        </p:blipFill>
        <p:spPr>
          <a:xfrm>
            <a:off x="6324480" y="3733920"/>
            <a:ext cx="2667240" cy="2971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Медведь в спячке1"/>
          <p:cNvPicPr/>
          <p:nvPr/>
        </p:nvPicPr>
        <p:blipFill>
          <a:blip r:embed="rId3"/>
          <a:stretch/>
        </p:blipFill>
        <p:spPr>
          <a:xfrm>
            <a:off x="2819520" y="3733920"/>
            <a:ext cx="3238560" cy="2981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Лежбище,лежк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рские ластоногие для отдыха и размножения собираются стадами на береговых или ледовых лежбищ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си,олени,зайцы отдыхают и укрываются на лежк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Лежбише моржей"/>
          <p:cNvPicPr/>
          <p:nvPr/>
        </p:nvPicPr>
        <p:blipFill>
          <a:blip r:embed="rId1"/>
          <a:stretch/>
        </p:blipFill>
        <p:spPr>
          <a:xfrm>
            <a:off x="380880" y="3733920"/>
            <a:ext cx="3810240" cy="2724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Заяц в лежке"/>
          <p:cNvPicPr/>
          <p:nvPr/>
        </p:nvPicPr>
        <p:blipFill>
          <a:blip r:embed="rId2"/>
          <a:stretch/>
        </p:blipFill>
        <p:spPr>
          <a:xfrm>
            <a:off x="4648320" y="3657600"/>
            <a:ext cx="4209840" cy="2838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незд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80071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мелких птиц гнездо имеет временный характер-предназначено только для выведения потомства. Крупные хищники используют  свои гнезда в течение нескольких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незда птиц чрезвычайно  разнообраз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5" descr="гнездо птицы"/>
          <p:cNvPicPr/>
          <p:nvPr/>
        </p:nvPicPr>
        <p:blipFill>
          <a:blip r:embed="rId1"/>
          <a:stretch/>
        </p:blipFill>
        <p:spPr>
          <a:xfrm>
            <a:off x="609480" y="3962520"/>
            <a:ext cx="3581640" cy="2743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Гнездо2"/>
          <p:cNvPicPr/>
          <p:nvPr/>
        </p:nvPicPr>
        <p:blipFill>
          <a:blip r:embed="rId2"/>
          <a:stretch/>
        </p:blipFill>
        <p:spPr>
          <a:xfrm>
            <a:off x="4648320" y="3962520"/>
            <a:ext cx="3581280" cy="2728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Жена_Мастера</cp:lastModifiedBy>
  <dcterms:modified xsi:type="dcterms:W3CDTF">2011-11-13T09:56:23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